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49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ct" ContentType="image/x-pict"/>
  <Override PartName="/ppt/media/image8.png" ContentType="image/png"/>
  <Override PartName="/ppt/media/image6.pct" ContentType="image/x-pict"/>
  <Override PartName="/ppt/media/image9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984000" cy="927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7"/>
          </p:nvPr>
        </p:nvSpPr>
        <p:spPr>
          <a:xfrm>
            <a:off x="395568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74320" y="695160"/>
            <a:ext cx="4635720" cy="3476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8"/>
          </p:nvPr>
        </p:nvSpPr>
        <p:spPr>
          <a:xfrm>
            <a:off x="-360" y="8805600"/>
            <a:ext cx="3027240" cy="4633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9"/>
          </p:nvPr>
        </p:nvSpPr>
        <p:spPr>
          <a:xfrm>
            <a:off x="3955680" y="8805600"/>
            <a:ext cx="3027240" cy="4633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92043D6D-C77F-4E11-AFD3-476745EA20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BC7C1C79-CDFB-42CC-BCC2-CDE171E2F8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131B4D1E-D095-413F-9B72-E819258027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AF59EA20-48A1-4D98-A88B-2F0416ADE6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050C05E0-71E9-4C36-BB7D-2194EAA1DE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D5AB7B93-C67A-4AA8-82D4-464CF5FC96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knowledge that your parallel task here assume at least grade 9 comfor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DDD6D221-7E35-4557-B5FB-EE887B9AF1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5E3CDCD5-5B2C-43C5-A1E5-564B7EA435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A83E7D1F-4EF4-4ABF-9596-68245039F7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73049799-2988-4B59-9851-7908DC92DA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4C3E1DF3-938D-4F03-958F-4FDD7C31CE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73A7D522-27A5-4961-ADDC-75705DEC49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90634876-E874-40FC-834F-2C6444A7CD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C1661C01-B1CE-45CD-B267-C935A067ED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2AA5C7F4-A55D-4FA4-89C9-CF81B4078B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nswer at tables and share a few respon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15F2B33D-DE48-4F3C-AF74-CFC02E3AE5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nswer at tables and share a few respon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E6454D30-2FED-4399-8CDA-8336D11667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nswer at tables and share a few respon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54730A66-C1D7-42D0-B83B-6D9BB7EDA7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nswer at tables and share a few respon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99D075A3-0FEA-455C-9F05-75F7B09D63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nswer at tables and share a few respon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044C958A-4295-47C7-A981-23BD43622B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714470AA-BBB9-44EA-9130-18C1F39BCA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scuss at tables and sh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698B9ADD-3E1E-4CF8-9F86-26A74B7A1B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AB5A13A0-273A-4AE7-B409-FEA659FD59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4984296C-1EEF-43BE-B3D2-0E74AEBF1F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FE63BD11-BA86-4E4C-BD3E-84A954443D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E0F295B5-C4BB-413A-9618-F1E68570C7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DE3D9296-CEFA-4FAD-8898-E42E5EE0A4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2409EEB6-B55C-4BCA-9D01-B4FE3FDAD7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42DCB4EF-983D-4B13-BB8C-97D8F351F1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EE68E060-992C-4F72-B208-570FD606B5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7D1BC383-88C7-41E3-9D02-FADAD050B1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C7C6FDC7-410C-4EAE-ACBF-EBB331B641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B1B16B76-1F6B-4F43-B281-DCC5C07493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E0F5D2F0-D8C8-48C7-86DD-B628799C0B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9A5750DE-8C50-46BF-979C-4213E10080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knowledge this might be tough for some participants. Remind them what the quadratic formula 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5D636E29-A2AA-4C3B-915C-10F387BAC7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D32EFB38-7A5A-4FFD-BC4C-E734F48B03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0A0E76D4-29B8-44ED-8815-65E1BE33DF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8A19B0BD-72A5-4F12-AEC3-797DBF5749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nswer at tables and share a few respon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129918E7-8A41-4E07-9031-7FB210E978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nswer at tables and share a few respon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BFDF656B-C76D-4DC1-B038-5BC5F11EF2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DC194FBA-7E46-402B-9C28-219CD019CD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57A9DC87-057A-468F-B896-F0D5A9C24D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073D5A8C-8A03-4B9F-AB33-359D4AF253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uld be y = 4x – 4 or y =  4(x-2)^2 + 4 or y = 2x^3 -8x^2 +6x +8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29207567-8178-41FF-9465-6EA5167305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8D88C3EA-46CE-49B1-837B-E8FA62D7F6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D610FDB1-9FE4-4E89-A1BA-CC66AB297D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88A8F5C9-C5AA-4B09-8C93-AE1E9F052F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5CE72DE3-DD6B-4EAC-827F-9247B2DD1B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4B132FF6-A5F4-4905-8904-8AD1A64478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F8CF5392-F81C-479D-9D87-EEE020029E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58FC5C01-77F0-404E-9D45-BF01B3925F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668FF6CB-4E52-4613-8980-55B8E9A454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C5F629BA-2985-40DD-ACED-F8A55A0EEF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8321B614-7214-46DA-BEB1-79005D63C0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35A31288-1F4A-456B-BF5F-4B9F09DFAD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B5B00F53-3C01-4050-A30B-2B8791A99E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A452D-3F24-4B46-B49E-E078E0C1C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07037-7453-46D5-8B0A-3E75AD821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804D3-7E6A-4F3E-9BF3-B90273DE0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84584-5B97-4C76-909E-CAAC7F184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ED8B8-3C5F-48F0-80FD-567FDFAFC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D8EB8-9384-40ED-A0D1-50290D063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D9E22-9497-4A8F-8639-DA87D95B9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BBED2-EE89-4D49-B7E9-E2AD3E5F4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46578-3E4D-4451-8A8C-EE0E25903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76176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E1063-640C-426E-89DA-7D83A395F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90DAD-2D0A-4C15-9A5C-209B05C09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779B0-5B68-463A-8F7D-0063AE3D5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44DC6-1C48-4C0B-BC36-15F9C8103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F8609-440F-4D5C-AFCA-3470A5AF5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5E081-52B6-4889-B1B5-C5B0C2BFE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4FFD2-0753-401B-9020-11DC62E67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F9192-D8FD-40D7-803B-9D1B806D3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F3A44-2AB5-48E1-9492-DA1727C4D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53A76-F97F-46C2-9797-DAFDFD454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54A99-BB54-4F26-A560-77F3052EA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76176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BA93A-9856-447E-8FF0-78D7CC4CD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6C915-844B-439F-B485-FF8BE9975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2EC0D-D816-4054-8BC6-FE0D856DC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FFA0D-A6D6-4F0B-A78B-C41F0D40A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32738-DE3D-4E02-8C11-F04D639FAC61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5" name="Picture 7" descr="Untitled-1"/>
          <p:cNvPicPr/>
          <p:nvPr/>
        </p:nvPicPr>
        <p:blipFill>
          <a:blip r:embed="rId2"/>
          <a:stretch/>
        </p:blipFill>
        <p:spPr>
          <a:xfrm>
            <a:off x="0" y="369720"/>
            <a:ext cx="6853320" cy="152640"/>
          </a:xfrm>
          <a:prstGeom prst="rect">
            <a:avLst/>
          </a:prstGeom>
          <a:ln w="0">
            <a:noFill/>
          </a:ln>
        </p:spPr>
      </p:pic>
      <p:pic>
        <p:nvPicPr>
          <p:cNvPr id="6" name="Picture 8" descr=""/>
          <p:cNvPicPr/>
          <p:nvPr/>
        </p:nvPicPr>
        <p:blipFill>
          <a:blip r:embed="rId3"/>
          <a:stretch/>
        </p:blipFill>
        <p:spPr>
          <a:xfrm>
            <a:off x="6732720" y="77760"/>
            <a:ext cx="2293920" cy="830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GAINS_Globe_70smws"/>
          <p:cNvPicPr/>
          <p:nvPr/>
        </p:nvPicPr>
        <p:blipFill>
          <a:blip r:embed="rId2"/>
          <a:stretch/>
        </p:blipFill>
        <p:spPr>
          <a:xfrm>
            <a:off x="0" y="1066680"/>
            <a:ext cx="2637000" cy="49532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Untitled-1"/>
          <p:cNvPicPr/>
          <p:nvPr/>
        </p:nvPicPr>
        <p:blipFill>
          <a:blip r:embed="rId3"/>
          <a:stretch/>
        </p:blipFill>
        <p:spPr>
          <a:xfrm>
            <a:off x="0" y="369720"/>
            <a:ext cx="6853320" cy="1526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"/>
          <p:cNvPicPr/>
          <p:nvPr/>
        </p:nvPicPr>
        <p:blipFill>
          <a:blip r:embed="rId4"/>
          <a:stretch/>
        </p:blipFill>
        <p:spPr>
          <a:xfrm>
            <a:off x="6732720" y="77760"/>
            <a:ext cx="2293920" cy="83016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9FCCC-A752-4F14-A013-8820E854CB99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pct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11"/>
          <p:cNvSpPr/>
          <p:nvPr/>
        </p:nvSpPr>
        <p:spPr>
          <a:xfrm>
            <a:off x="3124080" y="5105520"/>
            <a:ext cx="5004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Plenary 4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673000" y="2133360"/>
            <a:ext cx="5715000" cy="163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Summer Institute</a:t>
            </a:r>
            <a:br>
              <a:rPr sz="4800"/>
            </a:b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Thunder Bay</a:t>
            </a:r>
            <a:endParaRPr b="0" lang="en-US" sz="48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3"/>
          <p:cNvSpPr/>
          <p:nvPr/>
        </p:nvSpPr>
        <p:spPr>
          <a:xfrm>
            <a:off x="457200" y="2514600"/>
            <a:ext cx="8686800" cy="37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Might tell you that there are giant missing prerequisites that will get in the way of new learning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55CFB-894D-4E2C-9AC3-C5230D7B3F96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2"/>
          <p:cNvSpPr/>
          <p:nvPr/>
        </p:nvSpPr>
        <p:spPr>
          <a:xfrm>
            <a:off x="380880" y="990720"/>
            <a:ext cx="8382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0000ff"/>
                </a:solidFill>
                <a:latin typeface="Comic Sans MS"/>
              </a:rPr>
              <a:t>OR assessment </a:t>
            </a:r>
            <a:r>
              <a:rPr b="0" i="1" lang="en-CA" sz="4400" spc="-1" strike="noStrike">
                <a:solidFill>
                  <a:srgbClr val="0000ff"/>
                </a:solidFill>
                <a:latin typeface="Comic Sans MS"/>
              </a:rPr>
              <a:t>for</a:t>
            </a:r>
            <a:r>
              <a:rPr b="1" lang="en-CA" sz="4400" spc="-1" strike="noStrike">
                <a:solidFill>
                  <a:srgbClr val="0000ff"/>
                </a:solidFill>
                <a:latin typeface="Comic Sans MS"/>
              </a:rPr>
              <a:t> learning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8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3"/>
          <p:cNvSpPr/>
          <p:nvPr/>
        </p:nvSpPr>
        <p:spPr>
          <a:xfrm>
            <a:off x="533520" y="2895480"/>
            <a:ext cx="830556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Might tell you that your students already know what you were planning to teach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B3EE4-8324-4DAA-BE32-86A00FB5D792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2"/>
          <p:cNvSpPr/>
          <p:nvPr/>
        </p:nvSpPr>
        <p:spPr>
          <a:xfrm>
            <a:off x="380880" y="990720"/>
            <a:ext cx="8382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0000ff"/>
                </a:solidFill>
                <a:latin typeface="Comic Sans MS"/>
              </a:rPr>
              <a:t>OR assessment </a:t>
            </a:r>
            <a:r>
              <a:rPr b="0" i="1" lang="en-CA" sz="4400" spc="-1" strike="noStrike">
                <a:solidFill>
                  <a:srgbClr val="0000ff"/>
                </a:solidFill>
                <a:latin typeface="Comic Sans MS"/>
              </a:rPr>
              <a:t>for</a:t>
            </a:r>
            <a:r>
              <a:rPr b="1" lang="en-CA" sz="4400" spc="-1" strike="noStrike">
                <a:solidFill>
                  <a:srgbClr val="0000ff"/>
                </a:solidFill>
                <a:latin typeface="Comic Sans MS"/>
              </a:rPr>
              <a:t> learning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500"/>
                            </p:stCondLst>
                            <p:childTnLst>
                              <p:par>
                                <p:cTn id="12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9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2"/>
          <p:cNvSpPr/>
          <p:nvPr/>
        </p:nvSpPr>
        <p:spPr>
          <a:xfrm>
            <a:off x="1155600" y="990720"/>
            <a:ext cx="6769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0000ff"/>
                </a:solidFill>
                <a:latin typeface="Comic Sans MS"/>
              </a:rPr>
              <a:t>Comparing parallel tasks and open question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7BDC0-7692-46E0-8F4F-C3FD0E9AB7F3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2"/>
          <p:cNvSpPr/>
          <p:nvPr/>
        </p:nvSpPr>
        <p:spPr>
          <a:xfrm>
            <a:off x="609480" y="3429000"/>
            <a:ext cx="8229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omic Sans MS"/>
                <a:ea typeface="Comic Sans MS"/>
              </a:rPr>
              <a:t>Look at this pair of parallel tasks. Choose one and try it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6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99AC7-C926-4693-A691-CDA5313C19F3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3"/>
          <p:cNvSpPr/>
          <p:nvPr/>
        </p:nvSpPr>
        <p:spPr>
          <a:xfrm>
            <a:off x="304920" y="838080"/>
            <a:ext cx="4190760" cy="65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Jennifer drew a graph of         y = 2x – 8. She said there was no more work to do to draw a graph of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y =    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. What might she mean?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4648320" y="838080"/>
            <a:ext cx="4495680" cy="65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Jennifer drew a graph of         y = 2x</a:t>
            </a:r>
            <a:r>
              <a:rPr b="1" lang="en-US" sz="4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– 8. She said there was no more work to do to draw a graph of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y =      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. What might she mean?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3505320" y="4648320"/>
          <a:ext cx="533160" cy="50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4648320"/>
                    <a:ext cx="53316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8" name=""/>
          <p:cNvGraphicFramePr/>
          <p:nvPr/>
        </p:nvGraphicFramePr>
        <p:xfrm>
          <a:off x="8153280" y="4572000"/>
          <a:ext cx="673200" cy="571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153280" y="4572000"/>
                    <a:ext cx="673200" cy="5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7772400" y="4724280"/>
                <a:ext cx="35568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±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1" name="Straight Connector 8"/>
          <p:cNvSpPr/>
          <p:nvPr/>
        </p:nvSpPr>
        <p:spPr>
          <a:xfrm flipH="1">
            <a:off x="4493880" y="992160"/>
            <a:ext cx="3240" cy="533412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Picture 1.png"/>
          <p:cNvPicPr/>
          <p:nvPr/>
        </p:nvPicPr>
        <p:blipFill>
          <a:blip r:embed="rId1"/>
          <a:stretch/>
        </p:blipFill>
        <p:spPr>
          <a:xfrm>
            <a:off x="0" y="873000"/>
            <a:ext cx="9144000" cy="5112000"/>
          </a:xfrm>
          <a:prstGeom prst="rect">
            <a:avLst/>
          </a:prstGeom>
          <a:ln w="0">
            <a:noFill/>
          </a:ln>
        </p:spPr>
      </p:pic>
      <p:sp>
        <p:nvSpPr>
          <p:cNvPr id="143" name="Straight Connector 4"/>
          <p:cNvSpPr/>
          <p:nvPr/>
        </p:nvSpPr>
        <p:spPr>
          <a:xfrm flipV="1">
            <a:off x="838080" y="1142640"/>
            <a:ext cx="7696440" cy="4419720"/>
          </a:xfrm>
          <a:prstGeom prst="line">
            <a:avLst/>
          </a:prstGeom>
          <a:ln w="255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4" descr="Picture 4.png"/>
          <p:cNvPicPr/>
          <p:nvPr/>
        </p:nvPicPr>
        <p:blipFill>
          <a:blip r:embed="rId1"/>
          <a:stretch/>
        </p:blipFill>
        <p:spPr>
          <a:xfrm>
            <a:off x="0" y="830160"/>
            <a:ext cx="9144000" cy="5197680"/>
          </a:xfrm>
          <a:prstGeom prst="rect">
            <a:avLst/>
          </a:prstGeom>
          <a:ln w="0">
            <a:noFill/>
          </a:ln>
        </p:spPr>
      </p:pic>
      <p:sp>
        <p:nvSpPr>
          <p:cNvPr id="145" name="Straight Connector 6"/>
          <p:cNvSpPr/>
          <p:nvPr/>
        </p:nvSpPr>
        <p:spPr>
          <a:xfrm flipV="1">
            <a:off x="457200" y="1752120"/>
            <a:ext cx="7010280" cy="4038840"/>
          </a:xfrm>
          <a:prstGeom prst="line">
            <a:avLst/>
          </a:prstGeom>
          <a:ln w="25560">
            <a:solidFill>
              <a:srgbClr val="0000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963E2-B72F-4DF9-B32A-F4546B1A67B5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3"/>
          <p:cNvSpPr/>
          <p:nvPr/>
        </p:nvSpPr>
        <p:spPr>
          <a:xfrm>
            <a:off x="457200" y="2438280"/>
            <a:ext cx="8381880" cy="37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8200" indent="-538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What would the original graph look like? How do you know?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38200" indent="-538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What would the second graph look like? How do you know?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38200" indent="-538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2"/>
          <p:cNvSpPr/>
          <p:nvPr/>
        </p:nvSpPr>
        <p:spPr>
          <a:xfrm>
            <a:off x="533520" y="10666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omic Sans MS"/>
                <a:ea typeface="Comic Sans MS"/>
              </a:rPr>
              <a:t>Common question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B3BC0-5BF3-46C5-AC86-25872214639C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3"/>
          <p:cNvSpPr/>
          <p:nvPr/>
        </p:nvSpPr>
        <p:spPr>
          <a:xfrm>
            <a:off x="533520" y="2438280"/>
            <a:ext cx="8229600" cy="37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8200" indent="-538200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What do you think Jennifer meant when she said there was no more work to do?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38200" indent="-538200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Do you think she was right?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38200" indent="-538200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2"/>
          <p:cNvSpPr/>
          <p:nvPr/>
        </p:nvSpPr>
        <p:spPr>
          <a:xfrm>
            <a:off x="380880" y="8380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omic Sans MS"/>
                <a:ea typeface="Comic Sans MS"/>
              </a:rPr>
              <a:t>Common question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85EC3-8454-41E3-8EAA-5D56A4C683F9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3"/>
          <p:cNvSpPr/>
          <p:nvPr/>
        </p:nvSpPr>
        <p:spPr>
          <a:xfrm>
            <a:off x="1143000" y="2438280"/>
            <a:ext cx="7315200" cy="28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8200" indent="-538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What big idea was implicit in both of the parallel tasks?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38200" indent="-538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2"/>
          <p:cNvSpPr/>
          <p:nvPr/>
        </p:nvSpPr>
        <p:spPr>
          <a:xfrm>
            <a:off x="533520" y="10666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omic Sans MS"/>
                <a:ea typeface="Comic Sans MS"/>
              </a:rPr>
              <a:t>What do you think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0102E-FC4F-48EC-914C-5CE5F2E1DD45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380880" y="1905120"/>
            <a:ext cx="8763120" cy="56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8200" indent="-538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With a partner, reframe the two parallel tasks into a single open question.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38200" indent="-538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Once you do, decide if you think the parallel tasks or the open question might be better to use and why.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38200" indent="-538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2"/>
          <p:cNvSpPr/>
          <p:nvPr/>
        </p:nvSpPr>
        <p:spPr>
          <a:xfrm>
            <a:off x="533520" y="6858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omic Sans MS"/>
                <a:ea typeface="Comic Sans MS"/>
              </a:rPr>
              <a:t>What do you think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8C7A3-EF57-4A8F-8653-160E9D87A838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Picture 1.png"/>
          <p:cNvPicPr/>
          <p:nvPr/>
        </p:nvPicPr>
        <p:blipFill>
          <a:blip r:embed="rId1"/>
          <a:stretch/>
        </p:blipFill>
        <p:spPr>
          <a:xfrm>
            <a:off x="0" y="1349280"/>
            <a:ext cx="9144000" cy="4159440"/>
          </a:xfrm>
          <a:prstGeom prst="rect">
            <a:avLst/>
          </a:prstGeom>
          <a:ln w="0">
            <a:noFill/>
          </a:ln>
        </p:spPr>
      </p:pic>
      <p:sp>
        <p:nvSpPr>
          <p:cNvPr id="98" name="TextBox 3"/>
          <p:cNvSpPr/>
          <p:nvPr/>
        </p:nvSpPr>
        <p:spPr>
          <a:xfrm>
            <a:off x="0" y="609480"/>
            <a:ext cx="7010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omic Sans MS"/>
                <a:ea typeface="Comic Sans MS"/>
              </a:rPr>
              <a:t>Consider this relation…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06A1E-E29A-4BA5-9370-84BB80CFB478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3"/>
          <p:cNvSpPr/>
          <p:nvPr/>
        </p:nvSpPr>
        <p:spPr>
          <a:xfrm>
            <a:off x="1066680" y="2666880"/>
            <a:ext cx="7315200" cy="28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8200" indent="-538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1" lang="en-US" sz="4000" spc="-1" strike="noStrike">
                <a:solidFill>
                  <a:srgbClr val="0000ff"/>
                </a:solidFill>
                <a:latin typeface="Comic Sans MS"/>
              </a:rPr>
              <a:t>Open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questions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can work in all three parts of a three-part lesson.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38200" indent="-538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2"/>
          <p:cNvSpPr/>
          <p:nvPr/>
        </p:nvSpPr>
        <p:spPr>
          <a:xfrm>
            <a:off x="533520" y="8380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omic Sans MS"/>
                <a:ea typeface="Comic Sans MS"/>
              </a:rPr>
              <a:t>Where to use open question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E4089-4714-4F0D-9054-C5B3C886EED5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380880" y="2057400"/>
            <a:ext cx="8305920" cy="40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8200" indent="-538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For example, a minds-on </a:t>
            </a:r>
            <a:r>
              <a:rPr b="1" lang="en-US" sz="4000" spc="-1" strike="noStrike">
                <a:solidFill>
                  <a:srgbClr val="0000ff"/>
                </a:solidFill>
                <a:latin typeface="Comic Sans MS"/>
              </a:rPr>
              <a:t>open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question might be: Create two linear growing patterns that you think are really similar.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38200" indent="-538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2"/>
          <p:cNvSpPr/>
          <p:nvPr/>
        </p:nvSpPr>
        <p:spPr>
          <a:xfrm>
            <a:off x="533520" y="8380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omic Sans MS"/>
                <a:ea typeface="Comic Sans MS"/>
              </a:rPr>
              <a:t>Minds-o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E6AC4-609E-42E9-B00E-A370E6EDDBA5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3"/>
          <p:cNvSpPr/>
          <p:nvPr/>
        </p:nvSpPr>
        <p:spPr>
          <a:xfrm>
            <a:off x="609480" y="2057400"/>
            <a:ext cx="8229600" cy="40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You could ask: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What makes them similar?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How are their pattern rules similar?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2"/>
          <p:cNvSpPr/>
          <p:nvPr/>
        </p:nvSpPr>
        <p:spPr>
          <a:xfrm>
            <a:off x="533520" y="8380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omic Sans MS"/>
                <a:ea typeface="Comic Sans MS"/>
              </a:rPr>
              <a:t>Open Minds-o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69EE1-4FB1-4259-9F79-452ABB754186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533520" y="2057400"/>
            <a:ext cx="8305560" cy="56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8200" indent="-538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How might such an </a:t>
            </a:r>
            <a:r>
              <a:rPr b="1" lang="en-US" sz="4000" spc="-1" strike="noStrike">
                <a:solidFill>
                  <a:srgbClr val="0000ff"/>
                </a:solidFill>
                <a:latin typeface="Comic Sans MS"/>
              </a:rPr>
              <a:t>open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question be effective in diagnosing student differences?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38200" indent="-538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Do you see it more as exposing or evoking thinking?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38200" indent="-538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2"/>
          <p:cNvSpPr/>
          <p:nvPr/>
        </p:nvSpPr>
        <p:spPr>
          <a:xfrm>
            <a:off x="533520" y="8380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omic Sans MS"/>
                <a:ea typeface="Comic Sans MS"/>
              </a:rPr>
              <a:t>Purpose Open Minds-o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B2E69-02FD-4E5F-828D-2EF158A89BB2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3"/>
          <p:cNvSpPr/>
          <p:nvPr/>
        </p:nvSpPr>
        <p:spPr>
          <a:xfrm>
            <a:off x="457200" y="2057400"/>
            <a:ext cx="8686800" cy="43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8200" indent="-538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For a lesson on inequalities: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38200" indent="-538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Create a mathematical statement where any number greater than 10 is a possible solution.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38200" indent="-538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2"/>
          <p:cNvSpPr/>
          <p:nvPr/>
        </p:nvSpPr>
        <p:spPr>
          <a:xfrm>
            <a:off x="0" y="838080"/>
            <a:ext cx="91440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omic Sans MS"/>
                <a:ea typeface="Comic Sans MS"/>
              </a:rPr>
              <a:t>More examples – Open Minds-o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23D37-2D9E-43D4-9A3F-6731DDDBED91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3"/>
          <p:cNvSpPr/>
          <p:nvPr/>
        </p:nvSpPr>
        <p:spPr>
          <a:xfrm>
            <a:off x="457200" y="2057400"/>
            <a:ext cx="7924680" cy="50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For a lesson on quadratics: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Which two graphs do you think are alike? Why?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Y = 3x</a:t>
            </a:r>
            <a:r>
              <a:rPr b="1" lang="en-US" sz="4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-2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y = -3x</a:t>
            </a:r>
            <a:r>
              <a:rPr b="1" lang="en-US" sz="4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-2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Y = 3x</a:t>
            </a:r>
            <a:r>
              <a:rPr b="1" lang="en-US" sz="4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+2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y = 2x</a:t>
            </a:r>
            <a:r>
              <a:rPr b="1" lang="en-US" sz="4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+ 3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2"/>
          <p:cNvSpPr/>
          <p:nvPr/>
        </p:nvSpPr>
        <p:spPr>
          <a:xfrm>
            <a:off x="533520" y="8380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omic Sans MS"/>
                <a:ea typeface="Comic Sans MS"/>
              </a:rPr>
              <a:t>More Open Minds-o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5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5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50592-E8BE-4E39-B94C-1BE8121D35D7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3"/>
          <p:cNvSpPr/>
          <p:nvPr/>
        </p:nvSpPr>
        <p:spPr>
          <a:xfrm>
            <a:off x="457200" y="2057400"/>
            <a:ext cx="838188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8200" indent="-538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How would you open up this question (or is it open now)?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38200" indent="-538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Fill in the missing values: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38200" indent="-538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2"/>
          <p:cNvSpPr/>
          <p:nvPr/>
        </p:nvSpPr>
        <p:spPr>
          <a:xfrm>
            <a:off x="533520" y="8380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omic Sans MS"/>
                <a:ea typeface="Comic Sans MS"/>
              </a:rPr>
              <a:t>Your turn – Open Minds-o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143000" y="4572000"/>
          <a:ext cx="6095880" cy="1198440"/>
        </p:xfrm>
        <a:graphic>
          <a:graphicData uri="http://schemas.openxmlformats.org/drawingml/2006/table">
            <a:tbl>
              <a:tblPr/>
              <a:tblGrid>
                <a:gridCol w="762120"/>
                <a:gridCol w="761760"/>
                <a:gridCol w="762120"/>
                <a:gridCol w="762120"/>
                <a:gridCol w="761760"/>
                <a:gridCol w="762120"/>
                <a:gridCol w="762120"/>
                <a:gridCol w="761760"/>
              </a:tblGrid>
              <a:tr h="60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9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E9E78-A2F2-4072-BB95-B624C5D0E41E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2"/>
          <p:cNvSpPr/>
          <p:nvPr/>
        </p:nvSpPr>
        <p:spPr>
          <a:xfrm>
            <a:off x="533520" y="8380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omic Sans MS"/>
                <a:ea typeface="Comic Sans MS"/>
              </a:rPr>
              <a:t>Actio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3"/>
          <p:cNvSpPr/>
          <p:nvPr/>
        </p:nvSpPr>
        <p:spPr>
          <a:xfrm>
            <a:off x="609480" y="2590920"/>
            <a:ext cx="7848720" cy="32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How might you use </a:t>
            </a:r>
            <a:r>
              <a:rPr b="1" lang="en-US" sz="4400" spc="-1" strike="noStrike">
                <a:solidFill>
                  <a:srgbClr val="0000ff"/>
                </a:solidFill>
                <a:latin typeface="Comic Sans MS"/>
              </a:rPr>
              <a:t>open 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questions for 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action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5131C-8DBA-401D-B069-781E4ADBFF03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3"/>
          <p:cNvSpPr/>
          <p:nvPr/>
        </p:nvSpPr>
        <p:spPr>
          <a:xfrm>
            <a:off x="457200" y="1676520"/>
            <a:ext cx="8305920" cy="56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Choose two different values for the missing amounts. Make them different kinds of numbers:          3x – </a:t>
            </a:r>
            <a:r>
              <a:rPr b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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= 4 + </a:t>
            </a:r>
            <a:r>
              <a:rPr b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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Draw a diagram that would help someone understand how to solve your equation.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2"/>
          <p:cNvSpPr/>
          <p:nvPr/>
        </p:nvSpPr>
        <p:spPr>
          <a:xfrm>
            <a:off x="457200" y="6094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omic Sans MS"/>
                <a:ea typeface="Comic Sans MS"/>
              </a:rPr>
              <a:t>Open Actio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5" dur="50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03728-C09D-44E5-9EA1-A30D2E638254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3"/>
          <p:cNvSpPr/>
          <p:nvPr/>
        </p:nvSpPr>
        <p:spPr>
          <a:xfrm>
            <a:off x="380880" y="2057400"/>
            <a:ext cx="8534520" cy="56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8200" indent="-538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How could this activity help the struggler?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38200" indent="-538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How could it help the strong student?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38200" indent="-538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What math is learned?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38200" indent="-538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38200" indent="-538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2"/>
          <p:cNvSpPr/>
          <p:nvPr/>
        </p:nvSpPr>
        <p:spPr>
          <a:xfrm>
            <a:off x="533520" y="8380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omic Sans MS"/>
                <a:ea typeface="Comic Sans MS"/>
              </a:rPr>
              <a:t>Open Actio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" dur="5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2" dur="500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0000ff"/>
                </a:solidFill>
                <a:latin typeface="Comic Sans MS"/>
              </a:rPr>
              <a:t>Contras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3"/>
          <p:cNvSpPr/>
          <p:nvPr/>
        </p:nvSpPr>
        <p:spPr>
          <a:xfrm>
            <a:off x="457200" y="1981080"/>
            <a:ext cx="3581280" cy="48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Open: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Describe a relation sort of like this one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2D8CC-4FFF-493C-A3AD-F4F3026739F0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3"/>
          <p:cNvSpPr/>
          <p:nvPr/>
        </p:nvSpPr>
        <p:spPr>
          <a:xfrm>
            <a:off x="5105520" y="1905120"/>
            <a:ext cx="3504960" cy="41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Not Open: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What type of relation is this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5"/>
          <p:cNvSpPr/>
          <p:nvPr/>
        </p:nvSpPr>
        <p:spPr>
          <a:xfrm flipH="1">
            <a:off x="4494240" y="2133720"/>
            <a:ext cx="1440" cy="419256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5D84C-A854-423A-A141-C673D3E85492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3"/>
          <p:cNvSpPr/>
          <p:nvPr/>
        </p:nvSpPr>
        <p:spPr>
          <a:xfrm>
            <a:off x="304920" y="2057400"/>
            <a:ext cx="8458200" cy="53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8200" indent="-538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What strategy do you think I used to make this question open?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38200" indent="-538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Is it a strategy that could be used in other situations?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38200" indent="-538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38200" indent="-538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2"/>
          <p:cNvSpPr/>
          <p:nvPr/>
        </p:nvSpPr>
        <p:spPr>
          <a:xfrm>
            <a:off x="533520" y="8380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omic Sans MS"/>
                <a:ea typeface="Comic Sans MS"/>
              </a:rPr>
              <a:t>Open Actio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" dur="5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" dur="5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9CD04-05D2-4593-89B2-BB37BCF23FA0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3"/>
          <p:cNvSpPr/>
          <p:nvPr/>
        </p:nvSpPr>
        <p:spPr>
          <a:xfrm>
            <a:off x="380880" y="2057400"/>
            <a:ext cx="8001000" cy="40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A linear growing pattern has 50 as the 25</a:t>
            </a:r>
            <a:r>
              <a:rPr b="1" lang="en-US" sz="40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term. Create a bunch of possible patterns.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How does the starting value for your pattern relate to the rate at which it grows?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2"/>
          <p:cNvSpPr/>
          <p:nvPr/>
        </p:nvSpPr>
        <p:spPr>
          <a:xfrm>
            <a:off x="304920" y="838080"/>
            <a:ext cx="88390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omic Sans MS"/>
                <a:ea typeface="Comic Sans MS"/>
              </a:rPr>
              <a:t>More examples – Open Actio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1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" dur="500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9A89F-8B78-441F-BFD2-279D384E245D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3"/>
          <p:cNvSpPr/>
          <p:nvPr/>
        </p:nvSpPr>
        <p:spPr>
          <a:xfrm>
            <a:off x="380880" y="2057400"/>
            <a:ext cx="8382240" cy="37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Two lines intersect at (1,3).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One is much steeper than the other.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What could the pair of lines be? Give several possibilities.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2"/>
          <p:cNvSpPr/>
          <p:nvPr/>
        </p:nvSpPr>
        <p:spPr>
          <a:xfrm>
            <a:off x="533520" y="8380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omic Sans MS"/>
                <a:ea typeface="Comic Sans MS"/>
              </a:rPr>
              <a:t>More Open Actio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8" dur="5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3" dur="5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E5657-9D56-4399-807A-4F4B48A64ED3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3"/>
          <p:cNvSpPr/>
          <p:nvPr/>
        </p:nvSpPr>
        <p:spPr>
          <a:xfrm>
            <a:off x="304920" y="2057400"/>
            <a:ext cx="8839080" cy="56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Compare the roots of these three equations. What do you notice? Why does it happen?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4x</a:t>
            </a:r>
            <a:r>
              <a:rPr b="1" lang="en-US" sz="4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– 17x + 4 = 0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6x</a:t>
            </a:r>
            <a:r>
              <a:rPr b="1" lang="en-US" sz="4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– 37x + 6 = 0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8x</a:t>
            </a:r>
            <a:r>
              <a:rPr b="1" lang="en-US" sz="4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– 65x + 8 = 0 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2"/>
          <p:cNvSpPr/>
          <p:nvPr/>
        </p:nvSpPr>
        <p:spPr>
          <a:xfrm>
            <a:off x="533520" y="8380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omic Sans MS"/>
                <a:ea typeface="Comic Sans MS"/>
              </a:rPr>
              <a:t>More Open Actio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Box 5"/>
          <p:cNvSpPr/>
          <p:nvPr/>
        </p:nvSpPr>
        <p:spPr>
          <a:xfrm>
            <a:off x="5791320" y="4191120"/>
            <a:ext cx="3124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halkboard"/>
                <a:ea typeface="Chalkboard"/>
              </a:rPr>
              <a:t>Add another question that works the same way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" dur="500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" dur="500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" dur="500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15495-F6E1-47C5-A49C-DA6B2335FED8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3"/>
          <p:cNvSpPr/>
          <p:nvPr/>
        </p:nvSpPr>
        <p:spPr>
          <a:xfrm>
            <a:off x="609480" y="2743200"/>
            <a:ext cx="7848720" cy="28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Make up other sets of quadratic equations that have something in common?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2"/>
          <p:cNvSpPr/>
          <p:nvPr/>
        </p:nvSpPr>
        <p:spPr>
          <a:xfrm>
            <a:off x="533520" y="8380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omic Sans MS"/>
                <a:ea typeface="Comic Sans MS"/>
              </a:rPr>
              <a:t>More Open Actio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2" dur="5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91C22-B784-4C15-9665-815D542DB0D5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3"/>
          <p:cNvSpPr/>
          <p:nvPr/>
        </p:nvSpPr>
        <p:spPr>
          <a:xfrm>
            <a:off x="457200" y="2743200"/>
            <a:ext cx="8229600" cy="37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A trig function goes through the point (π,7). What could it be?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List a bunch of possibilities.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2"/>
          <p:cNvSpPr/>
          <p:nvPr/>
        </p:nvSpPr>
        <p:spPr>
          <a:xfrm>
            <a:off x="533520" y="8380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omic Sans MS"/>
                <a:ea typeface="Comic Sans MS"/>
              </a:rPr>
              <a:t>More Open Actio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9" dur="5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4" dur="500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C39FC-64E4-4C9A-8D43-399E60B102EA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3"/>
          <p:cNvSpPr/>
          <p:nvPr/>
        </p:nvSpPr>
        <p:spPr>
          <a:xfrm>
            <a:off x="533520" y="2590920"/>
            <a:ext cx="7848360" cy="28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What combination of $2 coins and $5 bills have a total value of $100?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2"/>
          <p:cNvSpPr/>
          <p:nvPr/>
        </p:nvSpPr>
        <p:spPr>
          <a:xfrm>
            <a:off x="533520" y="8380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omic Sans MS"/>
                <a:ea typeface="Comic Sans MS"/>
              </a:rPr>
              <a:t>Your turn – Open Actio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1" dur="5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19C77-A618-44FC-A264-61FD628DADD7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3"/>
          <p:cNvSpPr/>
          <p:nvPr/>
        </p:nvSpPr>
        <p:spPr>
          <a:xfrm>
            <a:off x="609480" y="2590920"/>
            <a:ext cx="784872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Open questions are also very appropriate for </a:t>
            </a:r>
            <a:r>
              <a:rPr b="1" lang="en-US" sz="4000" spc="-1" strike="noStrike">
                <a:solidFill>
                  <a:srgbClr val="0000ff"/>
                </a:solidFill>
                <a:latin typeface="Comic Sans MS"/>
              </a:rPr>
              <a:t>consolidation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2"/>
          <p:cNvSpPr/>
          <p:nvPr/>
        </p:nvSpPr>
        <p:spPr>
          <a:xfrm>
            <a:off x="533520" y="8380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omic Sans MS"/>
                <a:ea typeface="Comic Sans MS"/>
              </a:rPr>
              <a:t>Consolidation question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8" dur="5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7CEB9-45B4-4185-A0DD-B318BE17541F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3"/>
          <p:cNvSpPr/>
          <p:nvPr/>
        </p:nvSpPr>
        <p:spPr>
          <a:xfrm>
            <a:off x="1066680" y="2057400"/>
            <a:ext cx="7315200" cy="34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8200" indent="-538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Imagine that students have learned how to solve linear equations (e.g.,   4x – 2 = 9).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38200" indent="-538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2"/>
          <p:cNvSpPr/>
          <p:nvPr/>
        </p:nvSpPr>
        <p:spPr>
          <a:xfrm>
            <a:off x="533520" y="8380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omic Sans MS"/>
                <a:ea typeface="Comic Sans MS"/>
              </a:rPr>
              <a:t>Open Consolidatio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5" dur="5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A942D-9A14-4A3D-8288-8422EEB3B8FF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3"/>
          <p:cNvSpPr/>
          <p:nvPr/>
        </p:nvSpPr>
        <p:spPr>
          <a:xfrm>
            <a:off x="533520" y="2057400"/>
            <a:ext cx="8229600" cy="37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Without solving this equation, how do you know that the solution has to be positive?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-4x + 7 = -5x + 30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2"/>
          <p:cNvSpPr/>
          <p:nvPr/>
        </p:nvSpPr>
        <p:spPr>
          <a:xfrm>
            <a:off x="762120" y="8380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omic Sans MS"/>
                <a:ea typeface="Comic Sans MS"/>
              </a:rPr>
              <a:t>Open Consolidatio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2" dur="5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7" dur="500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0000ff"/>
                </a:solidFill>
                <a:latin typeface="Comic Sans MS"/>
              </a:rPr>
              <a:t>The underlying idea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380880" y="2895480"/>
            <a:ext cx="868680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To which big idea do you think this question might relate?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41ADA-A9E6-43C0-876D-F8E5B08284A0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9D8C8-1F71-402F-AB5D-D944C3F9313B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3"/>
          <p:cNvSpPr/>
          <p:nvPr/>
        </p:nvSpPr>
        <p:spPr>
          <a:xfrm>
            <a:off x="1066680" y="2057400"/>
            <a:ext cx="7315200" cy="40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How are these equations alike and different?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3x – 2 = 6 + 9x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3x – 2 = 6 + 9x – 6x -8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2"/>
          <p:cNvSpPr/>
          <p:nvPr/>
        </p:nvSpPr>
        <p:spPr>
          <a:xfrm>
            <a:off x="762120" y="8380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omic Sans MS"/>
                <a:ea typeface="Comic Sans MS"/>
              </a:rPr>
              <a:t>Open Consolidatio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4" dur="5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9" dur="500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4" dur="500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D3F4D-92AB-431F-9078-CBDA64804A3C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3"/>
          <p:cNvSpPr/>
          <p:nvPr/>
        </p:nvSpPr>
        <p:spPr>
          <a:xfrm>
            <a:off x="685800" y="2743200"/>
            <a:ext cx="8153280" cy="49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8200" indent="-538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students have learned the quadratic formula for solving quadratic equations and many other traits of quadratics.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38200" indent="-538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38200" indent="-538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2"/>
          <p:cNvSpPr/>
          <p:nvPr/>
        </p:nvSpPr>
        <p:spPr>
          <a:xfrm>
            <a:off x="762120" y="838080"/>
            <a:ext cx="82296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omic Sans MS"/>
                <a:ea typeface="Comic Sans MS"/>
              </a:rPr>
              <a:t>Imagine…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1" dur="5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A6366-01F3-45B3-9B96-971B5B338D19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3"/>
          <p:cNvSpPr/>
          <p:nvPr/>
        </p:nvSpPr>
        <p:spPr>
          <a:xfrm>
            <a:off x="1066680" y="2057400"/>
            <a:ext cx="7315200" cy="43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Besides the solutions to    ax</a:t>
            </a:r>
            <a:r>
              <a:rPr b="1" lang="en-US" sz="4000" spc="-1" strike="noStrike" baseline="30000">
                <a:solidFill>
                  <a:srgbClr val="000000"/>
                </a:solidFill>
                <a:latin typeface="Comic Sans MS"/>
              </a:rPr>
              <a:t>2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+bx + c = 0, what else does the quadratic formula tell you?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2"/>
          <p:cNvSpPr/>
          <p:nvPr/>
        </p:nvSpPr>
        <p:spPr>
          <a:xfrm>
            <a:off x="762120" y="8380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omic Sans MS"/>
                <a:ea typeface="Comic Sans MS"/>
              </a:rPr>
              <a:t>Open Consolidatio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7" descr="Picture 1.png"/>
          <p:cNvPicPr/>
          <p:nvPr/>
        </p:nvPicPr>
        <p:blipFill>
          <a:blip r:embed="rId1"/>
          <a:stretch/>
        </p:blipFill>
        <p:spPr>
          <a:xfrm>
            <a:off x="4038480" y="4038480"/>
            <a:ext cx="3314880" cy="1125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8" dur="5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31633-CB64-4C88-9172-04BF53D72A9E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3"/>
          <p:cNvSpPr/>
          <p:nvPr/>
        </p:nvSpPr>
        <p:spPr>
          <a:xfrm>
            <a:off x="838080" y="2438280"/>
            <a:ext cx="8763120" cy="37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How is solving a quadratic equation like solving a linear equation?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How is it different?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2"/>
          <p:cNvSpPr/>
          <p:nvPr/>
        </p:nvSpPr>
        <p:spPr>
          <a:xfrm>
            <a:off x="0" y="8380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omic Sans MS"/>
                <a:ea typeface="Comic Sans MS"/>
              </a:rPr>
              <a:t>Open Consolidatio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5" dur="5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0" dur="500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C5533-E647-4683-A8C9-9948F41C0431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3"/>
          <p:cNvSpPr/>
          <p:nvPr/>
        </p:nvSpPr>
        <p:spPr>
          <a:xfrm>
            <a:off x="533520" y="2057400"/>
            <a:ext cx="8229600" cy="43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One parabola is very narrow and one parabola is very wide.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Is there any way you be sure about how their equations differ?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2"/>
          <p:cNvSpPr/>
          <p:nvPr/>
        </p:nvSpPr>
        <p:spPr>
          <a:xfrm>
            <a:off x="762120" y="8380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omic Sans MS"/>
                <a:ea typeface="Comic Sans MS"/>
              </a:rPr>
              <a:t>Or…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7" dur="5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2" dur="500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BB272-921F-4126-A385-9A9831386849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3"/>
          <p:cNvSpPr/>
          <p:nvPr/>
        </p:nvSpPr>
        <p:spPr>
          <a:xfrm>
            <a:off x="533520" y="2057400"/>
            <a:ext cx="8305560" cy="49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For a lesson on trigonometric functions: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You must graph a trig function. In what situation might you want a y-axis going from -100 to 100?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2"/>
          <p:cNvSpPr/>
          <p:nvPr/>
        </p:nvSpPr>
        <p:spPr>
          <a:xfrm>
            <a:off x="533520" y="8380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omic Sans MS"/>
                <a:ea typeface="Comic Sans MS"/>
              </a:rPr>
              <a:t>Open Consolidatio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9" dur="5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4" dur="500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098AA-6BFD-424B-8C25-EB24CFBB1102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3"/>
          <p:cNvSpPr/>
          <p:nvPr/>
        </p:nvSpPr>
        <p:spPr>
          <a:xfrm>
            <a:off x="304920" y="2149560"/>
            <a:ext cx="8610480" cy="56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8200" indent="-538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Create an open consolidation question that you might use having taught students a lesson about how to solve equations of the form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38200" indent="-538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ax +b = cx + d              (e.g., 2x – 4 = 3x +1)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38200" indent="-538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2"/>
          <p:cNvSpPr/>
          <p:nvPr/>
        </p:nvSpPr>
        <p:spPr>
          <a:xfrm>
            <a:off x="380880" y="838080"/>
            <a:ext cx="87631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omic Sans MS"/>
                <a:ea typeface="Comic Sans MS"/>
              </a:rPr>
              <a:t>Your turn – Open Consolidatio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1" dur="5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6" dur="500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61317-2154-4B02-8134-C57A94AE9AE8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3"/>
          <p:cNvSpPr/>
          <p:nvPr/>
        </p:nvSpPr>
        <p:spPr>
          <a:xfrm>
            <a:off x="1066680" y="2514600"/>
            <a:ext cx="7315200" cy="28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8200" indent="-538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Often you can start from an existing lesson and </a:t>
            </a:r>
            <a:r>
              <a:rPr b="1" lang="en-US" sz="4000" spc="-1" strike="noStrike">
                <a:solidFill>
                  <a:srgbClr val="0000ff"/>
                </a:solidFill>
                <a:latin typeface="Comic Sans MS"/>
              </a:rPr>
              <a:t>open up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parts of it.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38200" indent="-538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2"/>
          <p:cNvSpPr/>
          <p:nvPr/>
        </p:nvSpPr>
        <p:spPr>
          <a:xfrm>
            <a:off x="762120" y="8380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omic Sans MS"/>
                <a:ea typeface="Comic Sans MS"/>
              </a:rPr>
              <a:t>Starting from a sourc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3" dur="5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2A3D9-4AF9-4B25-A794-381AC661FB71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3"/>
          <p:cNvSpPr/>
          <p:nvPr/>
        </p:nvSpPr>
        <p:spPr>
          <a:xfrm>
            <a:off x="609480" y="2057400"/>
            <a:ext cx="8534520" cy="43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8200" indent="-538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One strategy is to start with an answer and create a question.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38200" indent="-538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For example, a  growing pattern has 20 as the 9</a:t>
            </a:r>
            <a:r>
              <a:rPr b="1" lang="en-US" sz="40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term. What could the pattern be?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38200" indent="-538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2"/>
          <p:cNvSpPr/>
          <p:nvPr/>
        </p:nvSpPr>
        <p:spPr>
          <a:xfrm>
            <a:off x="762120" y="8380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omic Sans MS"/>
                <a:ea typeface="Comic Sans MS"/>
              </a:rPr>
              <a:t>Fail-safe strategie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0" dur="5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5" dur="500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1261F-EB9B-4FEC-B3B9-30AE2D6A7D9A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3"/>
          <p:cNvSpPr/>
          <p:nvPr/>
        </p:nvSpPr>
        <p:spPr>
          <a:xfrm>
            <a:off x="380880" y="2057400"/>
            <a:ext cx="8305920" cy="43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8200" indent="-538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Another is to ask for similarities and differences.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38200" indent="-538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For example, how is factoring x</a:t>
            </a:r>
            <a:r>
              <a:rPr b="1" lang="en-US" sz="4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+ 5x + 6 like and different from factoring 3x</a:t>
            </a:r>
            <a:r>
              <a:rPr b="1" lang="en-US" sz="4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- 2x – 8.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38200" indent="-538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2"/>
          <p:cNvSpPr/>
          <p:nvPr/>
        </p:nvSpPr>
        <p:spPr>
          <a:xfrm>
            <a:off x="762120" y="8380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omic Sans MS"/>
                <a:ea typeface="Comic Sans MS"/>
              </a:rPr>
              <a:t>Fail-safe strategie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46" dur="indefinite" restart="never" nodeType="tmRoot">
          <p:childTnLst>
            <p:seq>
              <p:cTn id="547" dur="indefinite" nodeType="mainSeq">
                <p:childTnLst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2" dur="5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7" dur="500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2"/>
          <p:cNvSpPr/>
          <p:nvPr/>
        </p:nvSpPr>
        <p:spPr>
          <a:xfrm>
            <a:off x="1143000" y="60948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0000ff"/>
                </a:solidFill>
                <a:latin typeface="Comic Sans MS"/>
              </a:rPr>
              <a:t>Contras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3"/>
          <p:cNvSpPr/>
          <p:nvPr/>
        </p:nvSpPr>
        <p:spPr>
          <a:xfrm>
            <a:off x="533520" y="1523880"/>
            <a:ext cx="8178840" cy="34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Open: A graph passes through the points (2,4) and (3,8). Describe the relation the graph represents.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7D282-695B-43FB-9699-0F2DE3359957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380880" y="4495680"/>
            <a:ext cx="8763120" cy="28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Not open: A line passes through the points (2,4) and (3,8). Write the equation of the line.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traight Connector 5"/>
          <p:cNvSpPr/>
          <p:nvPr/>
        </p:nvSpPr>
        <p:spPr>
          <a:xfrm>
            <a:off x="609480" y="4343400"/>
            <a:ext cx="7848720" cy="144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64F24-EFD4-4709-8727-8D9FCBC5E6A1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3"/>
          <p:cNvSpPr/>
          <p:nvPr/>
        </p:nvSpPr>
        <p:spPr>
          <a:xfrm>
            <a:off x="533520" y="2057400"/>
            <a:ext cx="8305560" cy="43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8200" indent="-538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Another is to let the student choose values.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38200" indent="-538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For example, ask students to choose values for </a:t>
            </a:r>
            <a:r>
              <a:rPr b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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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and graph </a:t>
            </a:r>
            <a:r>
              <a:rPr b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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x + </a:t>
            </a:r>
            <a:r>
              <a:rPr b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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y = 8.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38200" indent="-538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2"/>
          <p:cNvSpPr/>
          <p:nvPr/>
        </p:nvSpPr>
        <p:spPr>
          <a:xfrm>
            <a:off x="762120" y="8380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omic Sans MS"/>
                <a:ea typeface="Comic Sans MS"/>
              </a:rPr>
              <a:t>Fail-safe strategie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4" dur="500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9" dur="500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AD9B0-997F-408A-9245-726CE95C0F68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3"/>
          <p:cNvSpPr/>
          <p:nvPr/>
        </p:nvSpPr>
        <p:spPr>
          <a:xfrm>
            <a:off x="609480" y="2057400"/>
            <a:ext cx="8534520" cy="40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8200" indent="-538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From the other examples we have seen, you can see that these are not the only three strategies but they are helpful.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38200" indent="-538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2"/>
          <p:cNvSpPr/>
          <p:nvPr/>
        </p:nvSpPr>
        <p:spPr>
          <a:xfrm>
            <a:off x="762120" y="8380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omic Sans MS"/>
                <a:ea typeface="Comic Sans MS"/>
              </a:rPr>
              <a:t>Other strategie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70" dur="indefinite" restart="never" nodeType="tmRoot">
          <p:childTnLst>
            <p:seq>
              <p:cTn id="571" dur="indefinite" nodeType="mainSeq">
                <p:childTnLst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6" dur="50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E358F-F840-4E51-A635-3B88166FC583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3"/>
          <p:cNvSpPr/>
          <p:nvPr/>
        </p:nvSpPr>
        <p:spPr>
          <a:xfrm>
            <a:off x="609480" y="2286000"/>
            <a:ext cx="7848720" cy="34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8200" indent="-53820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Now you try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38200" indent="-53820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With a partner, choose a lesson.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38200" indent="-53820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2"/>
          <p:cNvSpPr/>
          <p:nvPr/>
        </p:nvSpPr>
        <p:spPr>
          <a:xfrm>
            <a:off x="533520" y="9144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omic Sans MS"/>
                <a:ea typeface="Comic Sans MS"/>
              </a:rPr>
              <a:t>Your own lesso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3" dur="50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8" dur="500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66502-CD29-4E5C-9880-A2957939643E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3"/>
          <p:cNvSpPr/>
          <p:nvPr/>
        </p:nvSpPr>
        <p:spPr>
          <a:xfrm>
            <a:off x="533520" y="2286000"/>
            <a:ext cx="7924680" cy="375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Open up: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  <a:ea typeface="Arial"/>
              </a:rPr>
              <a:t>- the minds-on,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  <a:ea typeface="Arial"/>
              </a:rPr>
              <a:t>- the action,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  <a:ea typeface="Arial"/>
              </a:rPr>
              <a:t>- the consolidate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.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2"/>
          <p:cNvSpPr/>
          <p:nvPr/>
        </p:nvSpPr>
        <p:spPr>
          <a:xfrm>
            <a:off x="533520" y="9144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omic Sans MS"/>
                <a:ea typeface="Comic Sans MS"/>
              </a:rPr>
              <a:t>Your own lesso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5" dur="50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0" dur="500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5" dur="500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0" dur="500"/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356C7-7785-44EB-83EE-424EB40B94EF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3"/>
          <p:cNvSpPr/>
          <p:nvPr/>
        </p:nvSpPr>
        <p:spPr>
          <a:xfrm>
            <a:off x="457200" y="1676520"/>
            <a:ext cx="8458200" cy="58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8200" indent="-53820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Interact with others at your tables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38200" indent="-53820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Select one </a:t>
            </a:r>
            <a:r>
              <a:rPr b="1" lang="en-US" sz="4400" spc="-1" strike="noStrike">
                <a:solidFill>
                  <a:srgbClr val="0000ff"/>
                </a:solidFill>
                <a:latin typeface="Comic Sans MS"/>
              </a:rPr>
              <a:t>minds-on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, one </a:t>
            </a:r>
            <a:r>
              <a:rPr b="1" lang="en-US" sz="4400" spc="-1" strike="noStrike">
                <a:solidFill>
                  <a:srgbClr val="0000ff"/>
                </a:solidFill>
                <a:latin typeface="Comic Sans MS"/>
              </a:rPr>
              <a:t>action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, and one </a:t>
            </a:r>
            <a:r>
              <a:rPr b="1" lang="en-US" sz="4400" spc="-1" strike="noStrike">
                <a:solidFill>
                  <a:srgbClr val="0000ff"/>
                </a:solidFill>
                <a:latin typeface="Comic Sans MS"/>
              </a:rPr>
              <a:t>consolidate 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question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38200" indent="-53820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Post them in the right spot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38200" indent="-53820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2"/>
          <p:cNvSpPr/>
          <p:nvPr/>
        </p:nvSpPr>
        <p:spPr>
          <a:xfrm>
            <a:off x="380880" y="7621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omic Sans MS"/>
                <a:ea typeface="Comic Sans MS"/>
              </a:rPr>
              <a:t>Share tim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7" dur="5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2" dur="500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7" dur="500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E078A-D122-4A34-86AC-3CA906A93353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3"/>
          <p:cNvSpPr/>
          <p:nvPr/>
        </p:nvSpPr>
        <p:spPr>
          <a:xfrm>
            <a:off x="457200" y="1828800"/>
            <a:ext cx="8686800" cy="548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44280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Think about why you might use an open question in each part of the lesson. Would your reasons be the same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42800" indent="-44280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Discuss this in your group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42800" indent="-44280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2"/>
          <p:cNvSpPr/>
          <p:nvPr/>
        </p:nvSpPr>
        <p:spPr>
          <a:xfrm>
            <a:off x="533520" y="6858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omic Sans MS"/>
                <a:ea typeface="Comic Sans MS"/>
              </a:rPr>
              <a:t>Consolidat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28" dur="indefinite" restart="never" nodeType="tmRoot">
          <p:childTnLst>
            <p:seq>
              <p:cTn id="629" dur="indefinite" nodeType="mainSeq">
                <p:childTnLst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4" dur="50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9" dur="500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7ACC8-FBA4-4FD7-A49C-68EEB6ACEBA3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3"/>
          <p:cNvSpPr/>
          <p:nvPr/>
        </p:nvSpPr>
        <p:spPr>
          <a:xfrm>
            <a:off x="533520" y="2438280"/>
            <a:ext cx="8229600" cy="456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44280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Assessment for learning is your focus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42800" indent="-4428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An open question should be accessible to all students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2800" indent="-4428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2"/>
          <p:cNvSpPr/>
          <p:nvPr/>
        </p:nvSpPr>
        <p:spPr>
          <a:xfrm>
            <a:off x="533520" y="10666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omic Sans MS"/>
                <a:ea typeface="Comic Sans MS"/>
              </a:rPr>
              <a:t>Open Minds-o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40" dur="indefinite" restart="never" nodeType="tmRoot">
          <p:childTnLst>
            <p:seq>
              <p:cTn id="641" dur="indefinite" nodeType="mainSeq">
                <p:childTnLst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6" dur="500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1" dur="500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9DEB5-D7F4-4D9B-8A7F-555F6880AD3A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3"/>
          <p:cNvSpPr/>
          <p:nvPr/>
        </p:nvSpPr>
        <p:spPr>
          <a:xfrm>
            <a:off x="380880" y="1676520"/>
            <a:ext cx="8458200" cy="548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44280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This is really an unscaffolded investigation, whether large or small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42800" indent="-44280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Students who need scaffolding receive it, but not everyone needs it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42800" indent="-44280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2"/>
          <p:cNvSpPr/>
          <p:nvPr/>
        </p:nvSpPr>
        <p:spPr>
          <a:xfrm>
            <a:off x="533520" y="6094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omic Sans MS"/>
                <a:ea typeface="Comic Sans MS"/>
              </a:rPr>
              <a:t>Open Actio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52" dur="indefinite" restart="never" nodeType="tmRoot">
          <p:childTnLst>
            <p:seq>
              <p:cTn id="653" dur="indefinite" nodeType="mainSeq">
                <p:childTnLst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8" dur="500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3" dur="500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0965F-0916-406A-852E-64900156C381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3"/>
          <p:cNvSpPr/>
          <p:nvPr/>
        </p:nvSpPr>
        <p:spPr>
          <a:xfrm>
            <a:off x="380880" y="1752480"/>
            <a:ext cx="8534520" cy="548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8200" indent="-53820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I had a lesson goal tied to a big idea. Did I achieve my lesson goal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38200" indent="-53820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By opening it up, I continue to allow for exposure of student thinking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38200" indent="-53820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2"/>
          <p:cNvSpPr/>
          <p:nvPr/>
        </p:nvSpPr>
        <p:spPr>
          <a:xfrm>
            <a:off x="457200" y="6858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omic Sans MS"/>
                <a:ea typeface="Comic Sans MS"/>
              </a:rPr>
              <a:t>Open Consolidat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64" dur="indefinite" restart="never" nodeType="tmRoot">
          <p:childTnLst>
            <p:seq>
              <p:cTn id="665" dur="indefinite" nodeType="mainSeq">
                <p:childTnLst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0" dur="50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5" dur="500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DB5AE-9B56-4293-996D-5B59464DB351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0000ff"/>
                </a:solidFill>
                <a:latin typeface="Comic Sans MS"/>
              </a:rPr>
              <a:t>Contras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0000ff"/>
                </a:solidFill>
                <a:latin typeface="Comic Sans MS"/>
              </a:rPr>
              <a:t>What made it open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1066680" y="2895480"/>
            <a:ext cx="7417080" cy="24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What made the first question open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F9C9D-669C-44F6-B70C-224019B58A15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8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2"/>
          <p:cNvSpPr/>
          <p:nvPr/>
        </p:nvSpPr>
        <p:spPr>
          <a:xfrm>
            <a:off x="1155600" y="99072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0000ff"/>
                </a:solidFill>
                <a:latin typeface="Comic Sans MS"/>
              </a:rPr>
              <a:t>Contras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3"/>
          <p:cNvSpPr/>
          <p:nvPr/>
        </p:nvSpPr>
        <p:spPr>
          <a:xfrm>
            <a:off x="380880" y="2057400"/>
            <a:ext cx="3429000" cy="48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Open: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Write an equation and solve it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B2EDD-D675-4B31-A26C-4B06616A8B77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4267080" y="1981080"/>
            <a:ext cx="4876920" cy="48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Less Open: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Solve.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3x-2 = 8. Describe your strategy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0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2"/>
          <p:cNvSpPr/>
          <p:nvPr/>
        </p:nvSpPr>
        <p:spPr>
          <a:xfrm>
            <a:off x="380880" y="990720"/>
            <a:ext cx="83822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0000ff"/>
                </a:solidFill>
                <a:latin typeface="Comic Sans MS"/>
              </a:rPr>
              <a:t>Using open questions for assessment </a:t>
            </a:r>
            <a:r>
              <a:rPr b="0" i="1" lang="en-CA" sz="4400" spc="-1" strike="noStrike">
                <a:solidFill>
                  <a:srgbClr val="0000ff"/>
                </a:solidFill>
                <a:latin typeface="Comic Sans MS"/>
              </a:rPr>
              <a:t>for</a:t>
            </a:r>
            <a:r>
              <a:rPr b="1" lang="en-CA" sz="4400" spc="-1" strike="noStrike">
                <a:solidFill>
                  <a:srgbClr val="0000ff"/>
                </a:solidFill>
                <a:latin typeface="Comic Sans MS"/>
              </a:rPr>
              <a:t> learning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609480" y="2895480"/>
            <a:ext cx="8229600" cy="44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An open question, as a minds-on activity, provides valuable information about how to proceed with your lesson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lide Number Placeholder 6"/>
          <p:cNvSpPr/>
          <p:nvPr/>
        </p:nvSpPr>
        <p:spPr>
          <a:xfrm>
            <a:off x="6553080" y="62452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61E5B-CB6C-4D42-9104-03579A8B0993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2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0T17:54:23Z</dcterms:created>
  <dc:creator>Peel District School Board</dc:creator>
  <dc:description/>
  <dc:language>en-US</dc:language>
  <cp:lastModifiedBy>Kathy Kubota-Zarivnij</cp:lastModifiedBy>
  <dcterms:modified xsi:type="dcterms:W3CDTF">2009-08-20T19:35:41Z</dcterms:modified>
  <cp:revision>41</cp:revision>
  <dc:subject/>
  <dc:title>Coaching for Math GAINS Professional Learning</dc:title>
</cp:coreProperties>
</file>